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C3A-627F-4410-B3D5-70F97333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4FE-E274-4212-AE6B-1AD337A8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114-6CFD-4076-857D-B53D34D2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A93-BCE2-437C-98B4-4DA414FA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A20-48C1-46C9-B34C-CAA1886C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4D4-18A0-41C6-8B72-F542B686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67A-C967-4111-8B3C-E71CD86D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C27-FA5E-40A5-A823-1D20AA54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65B-A502-4715-8FAB-02DB53C1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009-82A9-4008-9A7A-4F4AB73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B62-7B86-4F66-9E63-A5EA6EA2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1B3-E085-43CC-B4F1-0968D155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A9F9-9926-4334-AED7-AD15E7592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conab.gov.br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895480"/>
            <a:ext cx="8136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DADE VEGETAL – MAPA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sília/DF, 05 de agosto de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333360"/>
            <a:ext cx="712944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99"/>
                </a:solidFill>
                <a:latin typeface="Arial"/>
              </a:rPr>
              <a:t>Documento de Class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 de comprovar a classific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Decreto 6268/0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I - certificado de classificação de produto impo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XII - documento de classificação: certificado, planilha, romaneio ou outro documento, devidamente reconhecido pelo Ministério da Agricultura, Pecuária e Abastecimento, que comprova a realização da classificação veg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SGTQV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cumento em forma de planilha, romaneio... Um lote, muitas possibilidades de calibre e categoria, perfeitamente defini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norma ser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encaminhada para consulta pública ainda neste semestre (todos devem ficar aten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760320"/>
            <a:ext cx="7129440" cy="56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Habilitação de Class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TQV 4 – HABILITAÇÃO DE CLASSIF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: Elaborar Regulamento Técnico contendo os procedimentos, requisitos e critérios para realização de cursos de classificação e habilitação de classific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af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ixar claro quais são os requisitos técnicos para os candidatos a curso de classificador: permitir que todas as carreiras profissionais se habili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ação com CREA ou CRQ para responder a essa questão, de acordo com as características do produto a ser class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rtaria encaminhada para análise e public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76032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Procedimentos para Elaborar Padrões Oficiais de Class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TQV 5 – DIRETRIZES PARA OS PADR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: Elaborar o mapa do processo de criação/revisão dos padrões e o Regulamento contendo esses procedimentos, requisitos e crité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Padrões simplificados para os hortíco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Portaria MAPA 381, de 2009 - descrição detalhada de todo o processo de elaboração de padrões e modelo para elaborar Padr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60280"/>
            <a:ext cx="7129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Procedimentos para Registro de Embaladores, Processadores, Benefici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TQV 6 – REG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: Elaborar o mapa do processo do registro de PF e PJ credenciadas para classificação e de embaladoras, processadoras e beneficiadoras  e o Regulamento contendo esses procedimentos, requisitos e crité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Desaf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Registro de embaladores… pré-Inspeção Vegetal! Requisitos para esse registro incluirão boas práticas e APPCC (quando demandado pelo país importad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ratificação desse Registro – 3 Níveis de Registro (variáveis: risco do produto; âmbito de comercialização; outr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rma será submetida em consulta pública até outubro/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760320"/>
            <a:ext cx="74901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Controle Higiênico-Sanitário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Produtos Veg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GTQV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rtaria MAPA 54/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ação direta com a norma de regis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71640" y="333360"/>
            <a:ext cx="7488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iscalização da Class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GTQV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entos de fiscalização em todas as situações descritas nos slides anteriores (atacado, varejo e empresas embaladoras, processadoras e beneficiadoras de produtos vegeta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115640" y="333000"/>
            <a:ext cx="6985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 do MAPA não é puni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33960" y="887400"/>
          <a:ext cx="3794040" cy="232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33960" y="887400"/>
                    <a:ext cx="379404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203640" y="1844640"/>
            <a:ext cx="790560" cy="195120"/>
          </a:xfrm>
          <a:custGeom>
            <a:avLst/>
            <a:gdLst>
              <a:gd name="textAreaLeft" fmla="*/ 98640 w 790560"/>
              <a:gd name="textAreaRight" fmla="*/ 691920 w 79056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0560" y="17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621520" y="3157920"/>
            <a:ext cx="3895920" cy="3895920"/>
            <a:chOff x="2621520" y="3157920"/>
            <a:chExt cx="3895920" cy="3895920"/>
          </a:xfrm>
        </p:grpSpPr>
        <p:sp>
          <p:nvSpPr>
            <p:cNvPr id="164" name="_s68620"/>
            <p:cNvSpPr/>
            <p:nvPr/>
          </p:nvSpPr>
          <p:spPr>
            <a:xfrm>
              <a:off x="3143520" y="3679920"/>
              <a:ext cx="2851920" cy="285192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8621"/>
            <p:cNvSpPr/>
            <p:nvPr/>
          </p:nvSpPr>
          <p:spPr>
            <a:xfrm rot="7200000">
              <a:off x="3143520" y="3679560"/>
              <a:ext cx="2851920" cy="285192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8623"/>
            <p:cNvSpPr/>
            <p:nvPr/>
          </p:nvSpPr>
          <p:spPr>
            <a:xfrm rot="14400000">
              <a:off x="3143160" y="3679920"/>
              <a:ext cx="2851920" cy="285192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68618"/>
            <p:cNvSpPr/>
            <p:nvPr/>
          </p:nvSpPr>
          <p:spPr>
            <a:xfrm>
              <a:off x="5163480" y="4076640"/>
              <a:ext cx="86940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elh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muneraçã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Qualidade n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duçã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8619"/>
            <p:cNvSpPr/>
            <p:nvPr/>
          </p:nvSpPr>
          <p:spPr>
            <a:xfrm>
              <a:off x="4136760" y="5859720"/>
              <a:ext cx="86940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aranti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guranç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Qualida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68622"/>
            <p:cNvSpPr/>
            <p:nvPr/>
          </p:nvSpPr>
          <p:spPr>
            <a:xfrm>
              <a:off x="3106080" y="4078080"/>
              <a:ext cx="86940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um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nsum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mand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908000" y="320688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írculo Virtuoso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1703520"/>
            <a:ext cx="784872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9999"/>
                </a:solidFill>
                <a:latin typeface="Arial"/>
              </a:rPr>
              <a:t>Muito obrigad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99"/>
                </a:solidFill>
                <a:latin typeface="Arial"/>
              </a:rPr>
              <a:t>Fernando Guido Penari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99"/>
                </a:solidFill>
                <a:latin typeface="Arial"/>
              </a:rPr>
              <a:t>Coordenador Geral de Qualidade Veg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99"/>
                </a:solidFill>
                <a:latin typeface="Arial"/>
              </a:rPr>
              <a:t>CGQV/DIPOV/SDA/M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Fone: (61) 3218.2551 - Fax: (61) 3224.43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fernando.penariol@agricultur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42920" y="549360"/>
          <a:ext cx="727416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549360"/>
                    <a:ext cx="727416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4610880" y="3645000"/>
            <a:ext cx="3993120" cy="1944360"/>
            <a:chOff x="4610880" y="3645000"/>
            <a:chExt cx="3993120" cy="1944360"/>
          </a:xfrm>
        </p:grpSpPr>
        <p:graphicFrame>
          <p:nvGraphicFramePr>
            <p:cNvPr id="47" name=""/>
            <p:cNvGraphicFramePr/>
            <p:nvPr/>
          </p:nvGraphicFramePr>
          <p:xfrm>
            <a:off x="5432400" y="3645000"/>
            <a:ext cx="3171600" cy="1944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32400" y="3645000"/>
                      <a:ext cx="3171600" cy="19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 rot="20258400">
              <a:off x="4617720" y="4945680"/>
              <a:ext cx="790200" cy="193680"/>
            </a:xfrm>
            <a:custGeom>
              <a:avLst/>
              <a:gdLst>
                <a:gd name="textAreaLeft" fmla="*/ 98640 w 790200"/>
                <a:gd name="textAreaRight" fmla="*/ 691560 w 790200"/>
                <a:gd name="textAreaTop" fmla="*/ 48240 h 193680"/>
                <a:gd name="textAreaBottom" fmla="*/ 14544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9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11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26920" y="260280"/>
            <a:ext cx="7345440" cy="5608800"/>
            <a:chOff x="826920" y="260280"/>
            <a:chExt cx="7345440" cy="5608800"/>
          </a:xfrm>
        </p:grpSpPr>
        <p:sp>
          <p:nvSpPr>
            <p:cNvPr id="54" name=""/>
            <p:cNvSpPr/>
            <p:nvPr/>
          </p:nvSpPr>
          <p:spPr>
            <a:xfrm>
              <a:off x="1258920" y="260280"/>
              <a:ext cx="66978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inistéri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a Agricultura,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Pecuári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e Abastecimento - MA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32360" y="1628640"/>
              <a:ext cx="32400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Superintendênci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Federal de Agricul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187280" y="1197000"/>
              <a:ext cx="5185080" cy="2376360"/>
              <a:chOff x="1187280" y="1197000"/>
              <a:chExt cx="5185080" cy="2376360"/>
            </a:xfrm>
          </p:grpSpPr>
          <p:sp>
            <p:nvSpPr>
              <p:cNvPr id="57" name=""/>
              <p:cNvSpPr/>
              <p:nvPr/>
            </p:nvSpPr>
            <p:spPr>
              <a:xfrm>
                <a:off x="1187280" y="1638360"/>
                <a:ext cx="3095640" cy="703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Secretaria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 de Defesa 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Agropecuária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 - S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2771640" y="1197000"/>
                <a:ext cx="360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771640" y="119700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771640" y="2349360"/>
                <a:ext cx="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6920" y="2349360"/>
              <a:ext cx="7274160" cy="3519720"/>
              <a:chOff x="826920" y="2349360"/>
              <a:chExt cx="7274160" cy="351972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826920" y="3565440"/>
                <a:ext cx="4032360" cy="2303640"/>
                <a:chOff x="826920" y="3565440"/>
                <a:chExt cx="4032360" cy="23036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826920" y="3565440"/>
                  <a:ext cx="4032360" cy="1008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Departamento de </a:t>
                  </a:r>
                  <a:r>
                    <a:rPr b="0" lang="pt-BR" sz="2000" spc="-1" strike="noStrike">
                      <a:solidFill>
                        <a:srgbClr val="000000"/>
                      </a:solidFill>
                      <a:latin typeface="Tahoma"/>
                    </a:rPr>
                    <a:t>Inspeção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 de Produtos de Origem Vegetal - DIPO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"/>
                <p:cNvGrpSpPr/>
                <p:nvPr/>
              </p:nvGrpSpPr>
              <p:grpSpPr>
                <a:xfrm>
                  <a:off x="1403280" y="4584600"/>
                  <a:ext cx="2757240" cy="1284480"/>
                  <a:chOff x="1403280" y="4584600"/>
                  <a:chExt cx="2757240" cy="128448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2814480" y="4584600"/>
                    <a:ext cx="0" cy="579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403280" y="5165280"/>
                    <a:ext cx="2757240" cy="7038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Coordenação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ahoma"/>
                      </a:rPr>
                      <a:t> Geral de Qualidade Veget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" name=""/>
              <p:cNvSpPr/>
              <p:nvPr/>
            </p:nvSpPr>
            <p:spPr>
              <a:xfrm>
                <a:off x="5005440" y="3573360"/>
                <a:ext cx="3095640" cy="100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Serviço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 de 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Inspeção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 de Produtos 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Agropecuário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 - SIPA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16720" y="2349360"/>
                <a:ext cx="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476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LEGISLAÇ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 BÁSICA – Lei 9.972, de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981000"/>
            <a:ext cx="7129440" cy="27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nstitui a classificação de produtos vegetais, subprodutos e resíduos de valor econômico, e dá outras providê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rt. 1° Em todo o território nacional, a classificação é obrigatória para os produtos vegetais, seus subprodutos e resíduos de valor econômico: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041480" y="4070520"/>
            <a:ext cx="2522520" cy="2453760"/>
            <a:chOff x="1041480" y="4070520"/>
            <a:chExt cx="2522520" cy="245376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1041480" y="4496400"/>
              <a:ext cx="2522520" cy="20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761840" y="4070520"/>
              <a:ext cx="10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705120" y="3522600"/>
            <a:ext cx="2882880" cy="1277280"/>
            <a:chOff x="3705120" y="3522600"/>
            <a:chExt cx="2882880" cy="1277280"/>
          </a:xfrm>
        </p:grpSpPr>
        <p:pic>
          <p:nvPicPr>
            <p:cNvPr id="7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705120" y="3522600"/>
              <a:ext cx="288288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641840" y="4340160"/>
              <a:ext cx="6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076720" y="4626000"/>
            <a:ext cx="2738520" cy="1971360"/>
            <a:chOff x="5076720" y="4626000"/>
            <a:chExt cx="2738520" cy="197136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5076720" y="5171400"/>
              <a:ext cx="2738520" cy="14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57440" y="462600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197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rtigo 2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982960" y="2152800"/>
            <a:ext cx="3352680" cy="2819160"/>
            <a:chOff x="2982960" y="2152800"/>
            <a:chExt cx="3352680" cy="2819160"/>
          </a:xfrm>
        </p:grpSpPr>
        <p:sp>
          <p:nvSpPr>
            <p:cNvPr id="84" name=""/>
            <p:cNvSpPr/>
            <p:nvPr/>
          </p:nvSpPr>
          <p:spPr>
            <a:xfrm>
              <a:off x="2982960" y="2152800"/>
              <a:ext cx="3352680" cy="2819160"/>
            </a:xfrm>
            <a:custGeom>
              <a:avLst/>
              <a:gdLst>
                <a:gd name="textAreaLeft" fmla="*/ 838080 w 3352680"/>
                <a:gd name="textAreaRight" fmla="*/ 2514600 w 3352680"/>
                <a:gd name="textAreaTop" fmla="*/ 704880 h 2819160"/>
                <a:gd name="textAreaBottom" fmla="*/ 211464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68400" y="2958840"/>
              <a:ext cx="198108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34993"/>
                  </a:solidFill>
                  <a:latin typeface="Arial"/>
                </a:rPr>
                <a:t>MAPA: ATRIBUIÇÕ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34993"/>
                  </a:solidFill>
                  <a:latin typeface="Arial"/>
                </a:rPr>
                <a:t>Lei 9.972/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211560" y="17715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visão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06640" y="48960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ção N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59680" y="33717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scal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82760" y="33717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6840" y="5353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81040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Art. 3º, Par. Único: Padrões são estabelecidos pelo MAP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76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LEGISLAÇ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 BÁSICA – Lei 9.972, de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536840" cy="1152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1268280"/>
            <a:ext cx="82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ificação Vegetal funciona ass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635280" y="2637000"/>
            <a:ext cx="1944720" cy="2404080"/>
            <a:chOff x="3635280" y="2637000"/>
            <a:chExt cx="1944720" cy="2404080"/>
          </a:xfrm>
        </p:grpSpPr>
        <p:grpSp>
          <p:nvGrpSpPr>
            <p:cNvPr id="97" name=""/>
            <p:cNvGrpSpPr/>
            <p:nvPr/>
          </p:nvGrpSpPr>
          <p:grpSpPr>
            <a:xfrm>
              <a:off x="3635280" y="3139920"/>
              <a:ext cx="1944720" cy="1901160"/>
              <a:chOff x="3635280" y="3139920"/>
              <a:chExt cx="1944720" cy="1901160"/>
            </a:xfrm>
          </p:grpSpPr>
          <p:pic>
            <p:nvPicPr>
              <p:cNvPr id="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52720" y="3139920"/>
                <a:ext cx="1366920" cy="10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4507920"/>
                <a:ext cx="1944720" cy="53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500360" y="4219200"/>
                <a:ext cx="216000" cy="288360"/>
              </a:xfrm>
              <a:prstGeom prst="downArrow">
                <a:avLst>
                  <a:gd name="adj1" fmla="val 50000"/>
                  <a:gd name="adj2" fmla="val 333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138560" y="263700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Padrõ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71640" y="1982880"/>
            <a:ext cx="734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ÉRIO DA AGRICULTURA, PECUÁRIA E ABAST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8000" y="2349360"/>
            <a:ext cx="266400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349360"/>
            <a:ext cx="230508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01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dades Credenci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84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resas Embaladoras, Impor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008000" y="2565360"/>
            <a:ext cx="1476360" cy="110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87640" y="5373720"/>
            <a:ext cx="3313080" cy="431640"/>
          </a:xfrm>
          <a:prstGeom prst="leftRightArrow">
            <a:avLst>
              <a:gd name="adj1" fmla="val 50000"/>
              <a:gd name="adj2" fmla="val 15280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8268600">
            <a:off x="1763640" y="3336840"/>
            <a:ext cx="2232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enciamento e Fiscaliz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3726800">
            <a:off x="4859640" y="3418200"/>
            <a:ext cx="2232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scal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5084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de 60 Padrõ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8200" y="5516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tualmente, são 180 Empres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63640" y="123840"/>
            <a:ext cx="1511280" cy="1498320"/>
            <a:chOff x="1763640" y="123840"/>
            <a:chExt cx="1511280" cy="149832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763640" y="383760"/>
              <a:ext cx="151128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95280" y="12384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53080" y="174600"/>
            <a:ext cx="2303640" cy="1444680"/>
            <a:chOff x="5653080" y="174600"/>
            <a:chExt cx="2303640" cy="144468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5653080" y="574200"/>
              <a:ext cx="2303640" cy="10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562440" y="174600"/>
              <a:ext cx="6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47640" y="1693800"/>
            <a:ext cx="215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iretamente a alimenta</a:t>
            </a:r>
            <a:r>
              <a:rPr b="1" lang="pt-BR" sz="1400" spc="-1" strike="noStrike">
                <a:solidFill>
                  <a:srgbClr val="009999"/>
                </a:solidFill>
                <a:latin typeface="Arial"/>
              </a:rPr>
              <a:t>ção hu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1690560"/>
            <a:ext cx="21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Importa</a:t>
            </a:r>
            <a:r>
              <a:rPr b="1" lang="pt-BR" sz="1400" spc="-1" strike="noStrike">
                <a:solidFill>
                  <a:srgbClr val="009999"/>
                </a:solidFill>
                <a:latin typeface="Arial"/>
              </a:rPr>
              <a:t>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4920" y="10587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219280" y="10587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7002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etênc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 MAP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24360" y="134784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134784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22114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0920" y="20685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817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2571840"/>
            <a:ext cx="273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scais Federais Agropecuários dos Serviços de Inspeção de Produtos Agropecuários – SFA/U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5640" y="263988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scais Federais Agropecuários dos Serviços de Vigilância  Agropecuária – SFA/U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3813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357336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ejo e empresas embaladoras, processadoras e beneficiador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632040"/>
            <a:ext cx="25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os, aeroportos e Postos de Front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727600"/>
            <a:ext cx="17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 caso de Inconformida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57913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u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ção, sanção (advertência, multa...) respeitados os dire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5791320"/>
            <a:ext cx="25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beneficiamento ou rech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ç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4502160"/>
            <a:ext cx="28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scaliz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oletas de amostra, verific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rotulagem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álise da conformidade dos produtos aos Padrõe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icia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4502160"/>
            <a:ext cx="273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ifica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oletas de amostra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álise da conformidade dos produtos aos Padrõe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icia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7912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qu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62864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 ação do MAPA deve ser realizada com base na legis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Lei 9972, de 25 de maio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to 6268, de 22 de novembro de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is Regulamentos Técnicos (Padrões e Normas sobre Credenciamento, Fiscalização, entre outras – 7 Grupos Técnic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1413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115920"/>
            <a:ext cx="7129440" cy="66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9999"/>
                </a:solidFill>
                <a:latin typeface="Arial"/>
              </a:rPr>
              <a:t>Credenciamento para Class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Lei 9972/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- Art. 4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Ficam autorizadas a exercer a classificação de que trata esta Lei, mediante credenciam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 – os Estados e o Distrito Federal, diretamente ou por intermédio de órgãos ou empresas especializad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I – as cooperativas agrícolas e as empresas ou entidades especializadas na atividade;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II – as bolsas de mercadorias, as universidades e institutos de pesqui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SGTQV 2: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itérios e procedimentos para Credenci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ualmente, existe uma norma (Instrução Normativa 02/01) que estabelece as reg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PA est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revendo essa norma, prevendo tanto o credenciamento para prest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ção de serviço, quanto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ifi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ção pelos packing houses, embaladoras, etc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norma fo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caminhada para consulta pública – Portaria MAPA nº 247, de 23/07/2009 (disponível no site do MAP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2:41:05Z</dcterms:created>
  <dc:creator>MAPA</dc:creator>
  <dc:description/>
  <dc:language>en-US</dc:language>
  <cp:lastModifiedBy>fernando.penariol</cp:lastModifiedBy>
  <dcterms:modified xsi:type="dcterms:W3CDTF">2009-08-05T21:53:35Z</dcterms:modified>
  <cp:revision>117</cp:revision>
  <dc:subject/>
  <dc:title>Slide 1</dc:title>
</cp:coreProperties>
</file>